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ct" ContentType="image/x-pict"/>
  <Override PartName="/ppt/media/image12.jpeg" ContentType="image/jpeg"/>
  <Override PartName="/ppt/media/image4.pct" ContentType="image/x-pict"/>
  <Override PartName="/ppt/media/image7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0.pct" ContentType="image/x-pict"/>
  <Override PartName="/ppt/media/image11.jpeg" ContentType="image/jpeg"/>
  <Override PartName="/ppt/media/image9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5347-EDAE-4744-AAEB-9759A5943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4D22-6E7D-4E85-BB99-537C4390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88C7-163A-4F96-81F9-1F4653C70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BC1B-0ED8-4AA1-B58D-A1BE7BCF5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2E69-AEF0-4414-A880-5E8691E55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BE0A3-5A68-49C4-B4A6-FE8D888A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B2CD-A1F9-4E34-A4DB-34BDF616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E2BF-63BA-4425-B63A-5311CC97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3D90-C69D-4B1E-91A7-2003DB3E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7DF59-7A56-4AB4-A7E8-43F02688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B204-CAB9-4582-9A5B-66A056BE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D37C-5A85-4A42-82F1-501665A4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51D2-55B4-4921-89CF-005A7E51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94202-45D8-4E31-A26C-306B9222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ACCF-3471-4BA0-A7F3-F554D6F8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F99C-CB02-4A06-B2A0-B846494DB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772C0-25A0-4AF8-837B-B15FB23CF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8AE1-8498-4738-962C-C4390943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8F37-9909-4E70-B1E8-0C9BFBDA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E5DD-F195-487C-A64C-3079025C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4A32-0D31-451D-B0E2-5C69F163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F12C-8A93-426F-837A-457B58E1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246E-4B2B-4425-9A01-FD20ED84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1A78-6BAF-4F17-AB0D-301BFDCF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FB7A-3106-4D27-9138-850DC6876544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1D29-265A-4EC9-A739-A3E67D73BEE1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teachpol.tcnj.edu/amer_pol_hist/thumbnail434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8226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Cold War in 1960’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3" name="" descr="Kennedy and Khrushchev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2209680"/>
            <a:ext cx="4572000" cy="38656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295280" y="617220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66"/>
                </a:solidFill>
                <a:latin typeface="Arial"/>
              </a:rPr>
              <a:t>Soviet leader Nikita Kruschev and US President John F. Kennedy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Leonid Brezhnev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6197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Became new General Secretary (1964-1982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Beginning in 1964, USSR began a period of stagnation and limited re-Stalinization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Massive arms buildup started in response to humiliation of Cuban Missile Crisis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410080" y="3886200"/>
            <a:ext cx="3581640" cy="2381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2117880" y="4532400"/>
            <a:ext cx="268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33360" y="3622680"/>
            <a:ext cx="4724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USSR avoided direct confrontation with the U.S. and seemed more committed to peaceful coexistence than Khrushchev had been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Vietnam War (1964-1973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4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.S. fought unsuccessful war in Southeast Asia to prevent communism from spreading into South Vietnam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Domino Theory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 U.S. believed if Vietnam fell to communism, Laos, Cambodia and Thailand would also fall (perhaps even India) (1964-1973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410080" y="1447920"/>
            <a:ext cx="3071880" cy="42066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5562720" y="586728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www.vietnamwar.com/vnmap.jp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66680" y="175248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is PowerPoint presentation was adapted from the free download of “Cold War and Recovery” presentation found at this link: http://worldhistory.pppst.com/coldwar.html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Berlin Wall: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 in 1961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38876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 million East Germans escaped to West Berlin between 1949-1961; Soviets frustrat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hrushchev threatened Kennedy: Soviets would support East Germany to control access to Berli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343400" y="2260440"/>
            <a:ext cx="472428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-766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uba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7086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ith revolution in 1959 under leadership of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Fidel Castro,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uba became a communist country and an ally of the Soviet Un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Bay of Pigs Invasion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, 1961: U.S.-trained Cuban exiles tried unsuccessfully to invade Cu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581280" y="3429000"/>
            <a:ext cx="4953240" cy="32576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 rot="5384400">
            <a:off x="7246800" y="5198760"/>
            <a:ext cx="29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aeaea"/>
                </a:solidFill>
                <a:latin typeface="Arial"/>
              </a:rPr>
              <a:t>http://isshinryu.files.wordpress.com/2008/02/cuba1.jpg</a:t>
            </a:r>
            <a:endParaRPr b="0" lang="en-US" sz="9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7467480" y="922320"/>
            <a:ext cx="142740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uban Missile Cri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58672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1527"/>
                </a:solidFill>
                <a:latin typeface="Arial"/>
              </a:rPr>
              <a:t>Crisis became the closest the Soviet Union and US came to nuclear wa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819520" y="3048120"/>
            <a:ext cx="3990960" cy="26413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304920" y="1339920"/>
            <a:ext cx="8610480" cy="28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obe Caslon Pro Bold Italic"/>
              </a:rPr>
              <a:t>Nuclear catastrophe was hanging by a thread ..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dobe Caslon Pro Bold Italic"/>
              </a:rPr>
              <a:t>and we weren't counting days or hours, but minutes."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dobe Caslon Pro Bold"/>
              </a:rPr>
              <a:t>Soviet General and Army Chief of Operations, Anatoly Gribkov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uban Missile Cri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62940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uban Missile Cri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-360" y="1598760"/>
            <a:ext cx="43434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962: U.S. demanded Soviets remove their newly installed nuclear missiles from Cub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.S. placed blockade (naval quarantine) around Cub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hrushchev agreed to remove missiles if US vowed not to invade Cuba in the fut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risis weakened Khrushchev and contributed to his downfall in 1964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61527"/>
                </a:solidFill>
                <a:latin typeface="Arial"/>
              </a:rPr>
              <a:t>(video of Kennedy’s speech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419720" y="1828800"/>
            <a:ext cx="4724280" cy="33465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4419720" y="5257800"/>
            <a:ext cx="472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http://www.bbc.co.uk/schools/gcsebitesize/history/mwh/ir2/whowonthecubanmissilecrisisrev3.shtml</a:t>
            </a:r>
            <a:endParaRPr b="0" lang="en-US" sz="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uban Missile Cri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93600" y="6143760"/>
            <a:ext cx="740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http://www.bbc.co.uk/schools/gcsebitesize/history/mwh/ir2/causesofthecubacrisisrev2.shtml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94360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Nuclear Test Ban Treaty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1963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1598760"/>
            <a:ext cx="45720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hrushchev, Kennedy &amp; Britain signed historic treaty banning atmospheric testing in an attempt to reduce Cold War tensio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rance refused to sign (was in the process of developing own nuclear weapons program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hina became a nuclear power in 1964 leading to its estrangement with Soviet Union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419720" y="2057400"/>
            <a:ext cx="4724280" cy="35751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6561000" y="6400800"/>
            <a:ext cx="204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http://ndep.nv.gov/boff/percila.jp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member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5410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 the midst of these foreign policy challenges, President Kennedy had major issues on the homefront with civil right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 November 1963, President Kennedy was assassinated in Dallas, Texas. Lee Harvey Oswald was arrested but killed two days later during a transfer to prison by Jack Rub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yndon Johnson was sworn in as President aboard Air Force O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5943600" y="1600200"/>
            <a:ext cx="2725560" cy="42670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184800" y="5943600"/>
            <a:ext cx="2259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eaeaea"/>
                </a:solidFill>
                <a:latin typeface="Arial"/>
              </a:rPr>
              <a:t>http://www.spartacus.schoolnet.co.uk/JFKoswald.htm</a:t>
            </a:r>
            <a:endParaRPr b="0" lang="en-US" sz="7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4T17:22:52Z</dcterms:created>
  <dc:creator>Preferred Customer</dc:creator>
  <dc:description/>
  <dc:language>en-US</dc:language>
  <cp:lastModifiedBy>YHS Teacher</cp:lastModifiedBy>
  <dcterms:modified xsi:type="dcterms:W3CDTF">2009-06-01T01:48:01Z</dcterms:modified>
  <cp:revision>57</cp:revision>
  <dc:subject/>
  <dc:title>Cold War &amp; Recovery</dc:title>
</cp:coreProperties>
</file>